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9F6-6E7C-4E14-9C5B-38D43BF1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5E2-2552-4FD9-9589-E4CD668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FDD-6F9A-4C8A-91AF-5C095714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132-94FB-429E-9A07-F5DF50E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7E92-46B6-4AEE-B844-DA6C8CBD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79D0-618E-4F0E-B2BF-C2E47592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0FB0-6D50-4567-AA9C-64389EE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B4B-0228-42FB-96D6-0F21DA08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A6B-2C91-4A65-B700-943FBBC6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9319-04FD-4763-9C26-8D5F5F3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DB1-E097-4EAC-8456-6962190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0E8-CFAF-4C41-83E8-B5BCB8F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0934-24D1-4085-A221-173991A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E378-53A1-46D1-A1E0-272EB72D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1D4-9963-44A0-B02A-DE9A6DE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32F3-B480-46BE-A8FC-5B3DCFB6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D7E2-6F62-42E8-9C2D-A521DB0E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506-5AFE-49C4-BC9F-F751823C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F17-D426-4865-BC1E-C68FF2A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E27-7176-4FF8-A8B0-D9F2EE4D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460-4463-4051-A26E-2606BDF2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ABE-BB57-4AA5-A352-8AD285E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3ED-73F1-45A9-9EA2-D9C958A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79F-A70C-4DF8-850E-2684BD3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6C0-FD64-4280-9267-F93EE1AC3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0F96-71DB-4A45-BE88-B46951D802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кладские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асчета потребности в складских площадях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1639800" y="1386000"/>
            <a:ext cx="629604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складских площадях на строительной площадке для хранения материалов, изделий, оборудования, машин. Складские площади вычисляются отдельно для случаев открытого хранения, хранения под навесом и хранения в закрытом складе. Модуль обеспечивает автоматизированное формирование фрагментов пояснительной записки ПОС и ППР в части обоснования размеров складских площадок на строительной площад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складских площадей ведется по укрупненным показателям  на 1 млн. руб. максимального годового объема СМР (для закрытых складов и навесов) и/или на основе норм запаса, фактическом расходе и периоде потребления складируемых материалов и оборудования (для открытых склад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складских площадей  основывается на нормах запаса, фактическом расходе, периоде потребления складируемых материалов и оборудования с учетом норм количества материалов на 1 м2 площади склада и коэффициента использования площади скл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1960" y="5600880"/>
            <a:ext cx="794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варианты расчетов с нормативами для ПОС или ППР и ввести для каждого из них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ых материалов и издел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ого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625760" y="895320"/>
            <a:ext cx="615780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варианта расче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2720" y="5473800"/>
            <a:ext cx="76294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 варианта и задать все параметры расчетов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ип нормативов (для ПОС или для ППР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оэффициенты неравномерности поступления и потребл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довую стоимость СМР и индекс пересчета в цены 1969 г. (для варианта с нормативами для ПОС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011240"/>
            <a:ext cx="69278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ые материалы и изделия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62120" y="1265400"/>
            <a:ext cx="6262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ое оборудование и машины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87680" y="1252440"/>
            <a:ext cx="62690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1960" y="583884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ые материалы и изделия с нормативами, приведенными на физические измерители. Можно выбрать ручной ввод параметров или использовать справочник норм складировани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54080" y="1198440"/>
            <a:ext cx="5919840" cy="46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1960" y="578628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ое оборудование и машины с нормативами, приведенными на физические измерители. Можно выбрать ручной ввод параметров или использовать справочник норм складировани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370160" y="1436760"/>
            <a:ext cx="69627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обоснования размеров площадок для складирова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455840" y="1363680"/>
            <a:ext cx="6724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25:14Z</dcterms:modified>
  <cp:revision>300</cp:revision>
  <dc:subject/>
  <dc:title>Слайд 1</dc:title>
</cp:coreProperties>
</file>